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4 videos, each are about 2 minutes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group of 3, then C &amp; D could be combined… Part C has lots of ch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 Create a graph, symbol, picture, word splash, poem, etc. that demonstrates the key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B5F5-3BF5-43C1-BADB-92C71F922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E6AF-5ABE-467D-96AE-CDFB41EC6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4531-2E14-46A7-9244-2E870FA67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4DC1-9DBC-45DB-B686-6384148E6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98E6-7AC7-49CA-A08B-8517A9315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E9A8-9CE3-41EF-A3AB-4B748A626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4BD0-B676-4C2D-98DC-45465D313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2F4B-E710-4008-9E0D-EEEF53768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7D4D-E15D-43B8-B665-1EA6DC955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BEBC-3EB3-4556-A2E0-12E2749B1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586C-9BE1-4F3B-B2F2-649974D46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9FAB-51BF-4A15-8E19-90DB41352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66E3-5E3C-43B7-BB49-E3B228A84C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3CE7-81E1-41A2-B300-C4E749873C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 Session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to Video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respond effectively to this pair of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r suggested respons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72F1-3275-483E-8B10-FB95C5E825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onding with Time ~20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samples of stud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how you will respond to this small group of students during tomorrow’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hematics will you focus 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you 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(s) will you 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one representative sample to share with the whole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433B-350E-4189-ACB3-3DD05925BE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esentativ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your response to thi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B98C-FB66-4E43-A141-E5B1FC2C22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groups of students are in the same class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nage differentiated responses to the individuals and small groups in our class who have different lear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8BBE-E422-40E3-80D7-9D9548E7A8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29000" y="16002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feel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DB47-B1CB-43EB-85A5-8B3FD72AB0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oday’s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344E-675F-4AFD-8832-D9E57DA44C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characteristics of effec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question stems to be used when 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F777-4E56-4F1D-BAEE-6A093F3346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3520-79FA-4896-A3D8-5F95E63EC1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2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 and extend personal repertoire of strategies for responding to groups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strategies that facilitate multiple responses within a singl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athematical thinking in a range of responses to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E403-4A24-4F3C-B806-B41E0ED490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1042-14D6-4462-87EA-844FA50C9C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Think/Pair/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received feedback that really helped you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feedback look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i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9075-5CEA-4594-AD48-7D02FC84BF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Z:\Clip Art\Sports\Cartoons (A - Ba)\Baseball - Coach 3.wmf"/>
          <p:cNvPicPr/>
          <p:nvPr/>
        </p:nvPicPr>
        <p:blipFill>
          <a:blip r:embed="rId1"/>
          <a:stretch/>
        </p:blipFill>
        <p:spPr>
          <a:xfrm>
            <a:off x="6248520" y="4419720"/>
            <a:ext cx="27460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Self Assess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60A6-C372-4FF6-98AC-8994A44144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572240" cy="43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228600" y="617400"/>
            <a:ext cx="92880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8226360" y="550440"/>
            <a:ext cx="62244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reate a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a group of 4 people based on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o is A, B, C, and D based on years of teach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least hair  through to D - mos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162C-DCFF-4EF4-9392-D2850CC462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Z:\Clip Art\Clothing &amp; Accessories\Glasses\Eyeglasses 16.wmf"/>
          <p:cNvPicPr/>
          <p:nvPr/>
        </p:nvPicPr>
        <p:blipFill>
          <a:blip r:embed="rId1"/>
          <a:stretch/>
        </p:blipFill>
        <p:spPr>
          <a:xfrm>
            <a:off x="1371600" y="2743200"/>
            <a:ext cx="1266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Z:\Clip Art\Cartoons\Make Your Own! (A - Ha)\Ear 6.wmf"/>
          <p:cNvPicPr/>
          <p:nvPr/>
        </p:nvPicPr>
        <p:blipFill>
          <a:blip r:embed="rId2"/>
          <a:stretch/>
        </p:blipFill>
        <p:spPr>
          <a:xfrm>
            <a:off x="6858000" y="2292480"/>
            <a:ext cx="58104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Z:\Clip Art\People\Cartoons (Ma - Ma) 1\Man Running 02.wmf"/>
          <p:cNvPicPr/>
          <p:nvPr/>
        </p:nvPicPr>
        <p:blipFill>
          <a:blip r:embed="rId3"/>
          <a:stretch/>
        </p:blipFill>
        <p:spPr>
          <a:xfrm>
            <a:off x="4038480" y="2666880"/>
            <a:ext cx="116856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6640" y="228600"/>
            <a:ext cx="6319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earch Article ~1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318744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Feedback as Part of Formative Assessment (pp 1-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~ What the Research Shows (pp 3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~ Feedback Strategies and Content (pp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~ Feedback and Grading (pp 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98CF-F1B9-4B3B-900A-A584D4F2C6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1685880" cy="1884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33280" y="2376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Susan Brook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4"/>
          <p:cNvSpPr/>
          <p:nvPr/>
        </p:nvSpPr>
        <p:spPr>
          <a:xfrm>
            <a:off x="4495680" y="1676520"/>
            <a:ext cx="4496040" cy="1511280"/>
          </a:xfrm>
          <a:prstGeom prst="cloudCallout">
            <a:avLst>
              <a:gd name="adj1" fmla="val -47884"/>
              <a:gd name="adj2" fmla="val 4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characteristics of effective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are and Summarize ~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hat you read using a Round Robin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key characteristics of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choose a product that aligns with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product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D5AC-65B2-427C-9816-9F31819B65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9 students are responding to this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called A is 20% of a number called B. But A is 40% of 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B a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1076-E48A-4E3D-8642-5BA7BC04E0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10T13:25:23Z</dcterms:modified>
  <cp:revision>23</cp:revision>
  <dc:subject/>
  <dc:title>&lt;Title&gt;</dc:title>
</cp:coreProperties>
</file>